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090-B16E-4044-B3C0-7EA6ACE6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DD2-EA2A-4072-9114-D65C88B5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EC5-8F13-439B-BD93-1BB8FC15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FA6-F073-44EA-B116-9A506FE9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88C-C85D-4154-AAC3-8F7AAD9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EDD-A14B-44FF-AA2D-FDC362E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663-95F3-478D-8FB8-AE409A1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75C-302C-4BC9-B2D9-312C6E8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ED1-BE70-49D1-AFA6-A01E90AF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392-0F07-4318-9F88-FE970DC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BDC-06F2-45AF-88EF-38D3254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498-60B9-4867-9F8A-38E00EC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0D3-224F-4442-AB0B-75AA4E3D90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8436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nchronous Buck Converter Design for Digital Circui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29000" y="400068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-12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42920" y="2214720"/>
          <a:ext cx="92059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4720"/>
                    <a:ext cx="92059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dy-state PFM wav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46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4" descr="12.3_buck_full_sche2.jpeg"/>
          <p:cNvPicPr/>
          <p:nvPr/>
        </p:nvPicPr>
        <p:blipFill>
          <a:blip r:embed="rId1"/>
          <a:stretch/>
        </p:blipFill>
        <p:spPr>
          <a:xfrm>
            <a:off x="785880" y="428760"/>
            <a:ext cx="7619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12.2_buck_N_logic.png"/>
          <p:cNvPicPr/>
          <p:nvPr/>
        </p:nvPicPr>
        <p:blipFill>
          <a:blip r:embed="rId1"/>
          <a:stretch/>
        </p:blipFill>
        <p:spPr>
          <a:xfrm>
            <a:off x="333360" y="614520"/>
            <a:ext cx="8326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3" descr="12.2_buck_G_logic.png"/>
          <p:cNvPicPr/>
          <p:nvPr/>
        </p:nvPicPr>
        <p:blipFill>
          <a:blip r:embed="rId1"/>
          <a:stretch/>
        </p:blipFill>
        <p:spPr>
          <a:xfrm>
            <a:off x="500040" y="785880"/>
            <a:ext cx="847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961320" cy="3214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28760" y="1285920"/>
            <a:ext cx="5643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threshol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 DC-D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and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3" descr="800px-Pwm.png"/>
          <p:cNvPicPr/>
          <p:nvPr/>
        </p:nvPicPr>
        <p:blipFill>
          <a:blip r:embed="rId1"/>
          <a:stretch/>
        </p:blipFill>
        <p:spPr>
          <a:xfrm>
            <a:off x="428760" y="2571840"/>
            <a:ext cx="366696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28760" y="1428840"/>
            <a:ext cx="53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width modulation (PW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Frequency Modulation (P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or PF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427800" cy="451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28760" y="142884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curve with output curr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45960" y="2143080"/>
          <a:ext cx="87980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143080"/>
                    <a:ext cx="87980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动作按钮: 结束 4">
            <a:hlinkClick r:id="rId3" action="ppaction://hlinksldjump"/>
          </p:cNvPr>
          <p:cNvSpPr/>
          <p:nvPr/>
        </p:nvSpPr>
        <p:spPr>
          <a:xfrm>
            <a:off x="6715080" y="5500800"/>
            <a:ext cx="1285920" cy="928440"/>
          </a:xfrm>
          <a:custGeom>
            <a:avLst/>
            <a:gdLst>
              <a:gd name="textAreaLeft" fmla="*/ 60120 w 1285920"/>
              <a:gd name="textAreaRight" fmla="*/ 1225800 w 1285920"/>
              <a:gd name="textAreaTop" fmla="*/ 60120 h 928440"/>
              <a:gd name="textAreaBottom" fmla="*/ 868320 h 928440"/>
            </a:gdLst>
            <a:ahLst/>
            <a:rect l="textAreaLeft" t="textAreaTop" r="textAreaRight" b="textAreaBottom"/>
            <a:pathLst>
              <a:path w="29913" h="21600">
                <a:moveTo>
                  <a:pt x="0" y="0"/>
                </a:moveTo>
                <a:lnTo>
                  <a:pt x="29913" y="0"/>
                </a:lnTo>
                <a:lnTo>
                  <a:pt x="29913" y="21600"/>
                </a:lnTo>
                <a:lnTo>
                  <a:pt x="0" y="21600"/>
                </a:lnTo>
                <a:close/>
              </a:path>
              <a:path fill="lightenLess" w="29913" h="21600">
                <a:moveTo>
                  <a:pt x="0" y="0"/>
                </a:moveTo>
                <a:lnTo>
                  <a:pt x="29913" y="0"/>
                </a:lnTo>
                <a:lnTo>
                  <a:pt x="28513" y="1400"/>
                </a:lnTo>
                <a:lnTo>
                  <a:pt x="1400" y="1400"/>
                </a:lnTo>
                <a:close/>
              </a:path>
              <a:path fill="darken" w="29913" h="21600">
                <a:moveTo>
                  <a:pt x="29913" y="0"/>
                </a:moveTo>
                <a:lnTo>
                  <a:pt x="29913" y="21600"/>
                </a:lnTo>
                <a:lnTo>
                  <a:pt x="28513" y="20200"/>
                </a:lnTo>
                <a:lnTo>
                  <a:pt x="28513" y="1400"/>
                </a:lnTo>
                <a:close/>
              </a:path>
              <a:path fill="darkenLess" w="29913" h="21600">
                <a:moveTo>
                  <a:pt x="29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3" y="20200"/>
                </a:lnTo>
                <a:close/>
              </a:path>
              <a:path fill="lighten" w="29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3" h="21600">
                <a:moveTo>
                  <a:pt x="18456" y="10800"/>
                </a:moveTo>
                <a:lnTo>
                  <a:pt x="7950" y="17806"/>
                </a:lnTo>
                <a:lnTo>
                  <a:pt x="7950" y="3794"/>
                </a:lnTo>
                <a:close/>
              </a:path>
              <a:path fill="darken" w="29913" h="21600">
                <a:moveTo>
                  <a:pt x="20301" y="3794"/>
                </a:moveTo>
                <a:lnTo>
                  <a:pt x="20301" y="17806"/>
                </a:lnTo>
                <a:lnTo>
                  <a:pt x="21963" y="17806"/>
                </a:lnTo>
                <a:lnTo>
                  <a:pt x="2196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1285920" y="1928880"/>
          <a:ext cx="635796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928880"/>
                    <a:ext cx="63579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Wang Yang\My Documents\UVa Courses\VLSI project\报告&amp;结果\buck_11.29\comparator_ref0.6_10us.pn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matic buck DC-DC conve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12.3_buck.jpeg"/>
          <p:cNvPicPr/>
          <p:nvPr/>
        </p:nvPicPr>
        <p:blipFill>
          <a:blip r:embed="rId1"/>
          <a:stretch/>
        </p:blipFill>
        <p:spPr>
          <a:xfrm>
            <a:off x="1214280" y="1214280"/>
            <a:ext cx="69058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动作按钮: 开始 4">
            <a:hlinkClick r:id="rId1" action="ppaction://hlinksldjump"/>
          </p:cNvPr>
          <p:cNvSpPr/>
          <p:nvPr/>
        </p:nvSpPr>
        <p:spPr>
          <a:xfrm>
            <a:off x="8215200" y="6143760"/>
            <a:ext cx="714600" cy="57132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10008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8163" y="3794"/>
                </a:lnTo>
                <a:lnTo>
                  <a:pt x="8163" y="17806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12.3_buck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Yang</cp:lastModifiedBy>
  <dcterms:modified xsi:type="dcterms:W3CDTF">2008-12-04T18:13:57Z</dcterms:modified>
  <cp:revision>33</cp:revision>
  <dc:subject/>
  <dc:title>Synchronous Buck Converter Design for Digital Circuits  </dc:title>
</cp:coreProperties>
</file>